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550800"/>
        <c:axId val="22602337"/>
      </c:barChart>
      <c:catAx>
        <c:axId val="945508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602337"/>
        <c:crosses val="autoZero"/>
        <c:auto val="1"/>
        <c:lblAlgn val="ctr"/>
        <c:lblOffset val="100"/>
        <c:noMultiLvlLbl val="0"/>
      </c:catAx>
      <c:valAx>
        <c:axId val="226023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5508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E641-1912-4571-914E-9E572E7AF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E1C9-9BBD-4994-89C3-8CDA699B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9269-2900-4644-8A04-A6D249343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548B-B45C-4B73-B535-1E63BF40B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37E6-2F90-45BA-A39D-561B542B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4870-7B16-4EF0-B87F-4E841605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4F02-560D-4892-BBF4-B4AF1E55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5B05-DA64-424D-9691-37B895AB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95F3-B3AD-4569-80E6-DECFBD13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17D3-4726-46BE-BFD4-D9A19484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0A35-3E30-4C40-B643-2C12433B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1BBA-CED0-434C-87F5-D4933A34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D596A-1022-4182-8F10-D4488610C7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