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34186"/>
        <c:axId val="9092062"/>
      </c:barChart>
      <c:catAx>
        <c:axId val="59834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2062"/>
        <c:crosses val="autoZero"/>
        <c:auto val="1"/>
        <c:lblAlgn val="ctr"/>
        <c:lblOffset val="100"/>
        <c:noMultiLvlLbl val="0"/>
      </c:catAx>
      <c:valAx>
        <c:axId val="9092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34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8F2-C606-4FB4-BCDD-26BDF75B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FEC-D54E-4359-852B-4D589FD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D1A-B2B2-49D3-A52C-3BFFFCF2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3EA-FCBD-4F64-B968-1D029D33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7BA-51AD-41C0-997B-93A8F935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5AA-BEA2-4D42-8471-9501685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A7C-5C1B-4E24-9B55-B42C6CFC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1F7-3866-400D-865A-ED457BB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39D-A8BD-4B80-9549-EC935BBE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262-E026-4E56-A85A-5EE552E8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BBB-1CA1-4387-A5F8-0CB20BF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528-05E1-4673-8891-10C0901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B95B6-A369-4E0C-A416-43CF2B269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