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09248"/>
        <c:axId val="99608403"/>
      </c:barChart>
      <c:catAx>
        <c:axId val="89209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08403"/>
        <c:crosses val="autoZero"/>
        <c:auto val="1"/>
        <c:lblAlgn val="ctr"/>
        <c:lblOffset val="100"/>
        <c:noMultiLvlLbl val="0"/>
      </c:catAx>
      <c:valAx>
        <c:axId val="99608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9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3EF-627F-48FC-BA71-EF32C400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C366-DC7D-4C5C-87EA-5B8E4CA2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553-554F-463B-90BE-8B120D97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1F36-AED8-4F46-90F1-767CB52F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3AE-803B-4F65-90DF-E028F102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F03-62A5-45DA-A3AC-29C2C32B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C118-F5C6-4285-905F-E3D566AC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8130-CE18-4FD5-A3DE-114E3D65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7C7-309A-47CC-A4AA-E723DC95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5A8-2CFF-47D7-AE33-59E432F5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14B4-B8B6-4D05-92D8-00F03B3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ADC-68C8-461F-B787-28F92CD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9BB25-89A4-4DE3-9A45-70E3F43E17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