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46514"/>
        <c:axId val="49389552"/>
      </c:barChart>
      <c:catAx>
        <c:axId val="67546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89552"/>
        <c:crosses val="autoZero"/>
        <c:auto val="1"/>
        <c:lblAlgn val="ctr"/>
        <c:lblOffset val="100"/>
        <c:noMultiLvlLbl val="0"/>
      </c:catAx>
      <c:valAx>
        <c:axId val="49389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6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F77-DC8F-41AB-A44B-173032D0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D62-85F7-4E75-8151-F360E93C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128-6FE1-4284-87FF-E9C1748C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A10-569A-414B-81DE-C921A2B9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6AB-2745-4558-B223-B68AAB4A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964-32D0-412A-8337-28CCFB6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809-3BBD-4CF2-885F-4DCA0D4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B11-6F21-4D6D-AD60-BB8ABE13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2AA-EE65-475C-B4B8-4A521AA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94A-2AD4-420F-BE8D-3B30109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4C7-38FD-4B9C-8FFC-451A43C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8FE-9F8C-4FBD-881C-8499CD1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8482D-88DF-4233-B795-A03B161D0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