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77291"/>
        <c:axId val="66362686"/>
      </c:barChart>
      <c:catAx>
        <c:axId val="28977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62686"/>
        <c:crosses val="autoZero"/>
        <c:auto val="1"/>
        <c:lblAlgn val="ctr"/>
        <c:lblOffset val="100"/>
        <c:noMultiLvlLbl val="0"/>
      </c:catAx>
      <c:valAx>
        <c:axId val="66362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77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ED8-462A-4851-BC0A-3A035F03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050-CEBC-4EE4-9AB7-532B3A0F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60A-C424-450E-A176-867AC873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765-F537-4E4C-8A02-3EE32181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18F-79CC-4A86-AE97-4C6EFA41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E37-50EC-44D5-B269-3EF23BD8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050-E227-4FEF-8567-F6F6D4B8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D6C-A357-4341-8D6E-242BB46C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A05-66AF-4DEE-B55E-C1810E8C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8BB-A26D-4182-B8D7-39FA5104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ED2-2573-4838-9DA1-2A967756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A15-F14E-43EF-959C-98177BF2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5379A-0782-4BE1-BC94-FD9F91F985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