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61511"/>
        <c:axId val="15696721"/>
      </c:barChart>
      <c:catAx>
        <c:axId val="59961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96721"/>
        <c:crosses val="autoZero"/>
        <c:auto val="1"/>
        <c:lblAlgn val="ctr"/>
        <c:lblOffset val="100"/>
        <c:noMultiLvlLbl val="0"/>
      </c:catAx>
      <c:valAx>
        <c:axId val="15696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61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057-FAD3-4D13-A258-311529F6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5B0-2953-449F-A5EF-9B35A7E5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F8D-AF24-4D06-B272-E21CF8D5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CE5-802C-4DA2-8458-6404D86A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B36-0552-4AEB-96EC-12B9EEC3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4CB-3EFF-4400-A085-820E70B1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724-F204-4D10-9E25-149ADA0E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AA6-8F28-4C01-986F-C0955D23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5BF-4D56-440F-BED3-CA33F58F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8E4-B796-4A9E-8010-A8D181F7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36B-5191-4320-8E57-E96B5A63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E4F-BE16-42D7-A982-EB3781C3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4F46A-8C05-472B-9336-C259488248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