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037214"/>
        <c:axId val="96893939"/>
      </c:barChart>
      <c:catAx>
        <c:axId val="120372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93939"/>
        <c:crosses val="autoZero"/>
        <c:auto val="1"/>
        <c:lblAlgn val="ctr"/>
        <c:lblOffset val="100"/>
        <c:noMultiLvlLbl val="0"/>
      </c:catAx>
      <c:valAx>
        <c:axId val="96893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0372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2E0B-0133-414D-A518-6B9746A8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C0E7-504D-455F-B1C7-25D0A48A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35D1-6921-4A02-8DF6-00499033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604-3145-484E-8287-9DFDC29F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7C25-04A6-4E02-B0A9-70BF7EBFE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B708-7908-4038-B008-EF8138D0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E05C-D15E-4E63-8A6B-7E2AEB58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AB36-5A43-4736-9E66-6BFF9AA8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B6E8-D897-4675-9D7D-DBDCBEB2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25A-3BA8-48AD-AE74-7978D6CA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11D4-70F4-4475-85A3-29EE6B92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1F63-AAA0-4853-A3BF-FC6935DD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9A2758-B81C-438C-9928-CE439F21A6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