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20753"/>
        <c:axId val="77804785"/>
      </c:barChart>
      <c:catAx>
        <c:axId val="24720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04785"/>
        <c:crosses val="autoZero"/>
        <c:auto val="1"/>
        <c:lblAlgn val="ctr"/>
        <c:lblOffset val="100"/>
        <c:noMultiLvlLbl val="0"/>
      </c:catAx>
      <c:valAx>
        <c:axId val="77804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20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FF2-0B85-49E5-B7A7-D2030B4D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BC1-016D-47C6-8ED7-5C2C3679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DA0-DF92-49B2-8078-7FBC9546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23E-D2A0-4B41-AC35-97DD6366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A42-5227-4414-881C-7DEAE798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53C-8493-4029-B5B8-3C8E9A3D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DA3-C579-4914-AE09-5A81D998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A0C-59DE-408D-87AF-115BAFEC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A7A-EA2D-45A2-90FA-A6FB17E3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2BE-DBCF-4060-828C-F2625CF8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668-D114-4AC4-A7C4-260CD92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779-3329-4764-A32D-A876A28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DD1B2-CA96-45E7-A2E0-6FCA6265F5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