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22500"/>
        <c:axId val="1002612"/>
      </c:barChart>
      <c:catAx>
        <c:axId val="21522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2612"/>
        <c:crosses val="autoZero"/>
        <c:auto val="1"/>
        <c:lblAlgn val="ctr"/>
        <c:lblOffset val="100"/>
        <c:noMultiLvlLbl val="0"/>
      </c:catAx>
      <c:valAx>
        <c:axId val="1002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22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E5E-9E6E-4F40-88F3-46F6C29F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CD2-EA9B-428E-973E-5AF31DF2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88D-5D6F-43AF-AF9F-DC6C977B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9AD-FBE3-48E6-AD60-9BF129D2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C19-6082-479A-881A-7A2872A6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C05-E34C-42AE-B8F1-E5201A29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5CC-94CC-497F-B30F-57964D3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81F-21D1-4220-9169-E6A32236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E6D-D39F-411C-81FC-E427A6C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336-A6E0-4F23-83BD-F88F2AF8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A54-9077-4942-AFD9-10B9AA9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04C-D89C-457F-AAE0-4E10433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747B6-6897-4B4A-9A79-E2A0FECE17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