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8115"/>
        <c:axId val="62119129"/>
      </c:barChart>
      <c:catAx>
        <c:axId val="4648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19129"/>
        <c:crosses val="autoZero"/>
        <c:auto val="1"/>
        <c:lblAlgn val="ctr"/>
        <c:lblOffset val="100"/>
        <c:noMultiLvlLbl val="0"/>
      </c:catAx>
      <c:valAx>
        <c:axId val="62119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8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515-87A4-4037-BFC6-6DE44AA6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DF6-22AD-40E5-B464-28286314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9C0-2DA8-4ACC-A4EB-11176AC5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881-C839-492E-9FF4-3BAE99B5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268-F018-44E6-AE5D-82F1CE7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62B-EF9E-4E80-9C91-BBC5991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0EA-2CFB-447B-9AB5-B9AD0C55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3E7-5342-4153-BAF1-DCD56AEA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DF7-4D45-4836-9B9C-E967C0E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918-C452-4FE9-9D52-11D7BC4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70A-B6B5-439F-AE14-D97F760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DA8-3462-4EDE-A155-4F2E3263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49B68-ECC1-4A8D-AD1F-E32065789A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