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3921277"/>
        <c:axId val="10873552"/>
      </c:barChart>
      <c:catAx>
        <c:axId val="4392127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0873552"/>
        <c:crosses val="autoZero"/>
        <c:auto val="1"/>
        <c:lblAlgn val="ctr"/>
        <c:lblOffset val="100"/>
        <c:noMultiLvlLbl val="0"/>
      </c:catAx>
      <c:valAx>
        <c:axId val="1087355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392127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4E4E3-B011-44D5-847A-9BE2E1024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A47FD-3AD2-42D4-B14B-33A6DC4E6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54FBF-9650-4EC0-855D-A8E31902B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F853D-3CB7-403E-B8EB-33EFF6184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59235-ADF7-4529-BEEE-88B7F5B9E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3677C-4CA5-4ED4-A71A-AEE9E69DC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D2AB0-69FD-4697-B2D1-20FE20981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AFF22-DB90-49D7-BC13-AEBBB6899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3AEDB-BA88-4D62-B9B2-CE3CFC91F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40D19-1148-477E-9310-7FEEA02FD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AED42-7AFD-4147-916D-5846A5FDB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4AE34-97FA-45E5-9EF7-5EFA27E19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D1CF03-8CDD-46F1-90A5-ED5D72E7264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