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70959"/>
        <c:axId val="70976183"/>
      </c:barChart>
      <c:catAx>
        <c:axId val="85070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76183"/>
        <c:crosses val="autoZero"/>
        <c:auto val="1"/>
        <c:lblAlgn val="ctr"/>
        <c:lblOffset val="100"/>
        <c:noMultiLvlLbl val="0"/>
      </c:catAx>
      <c:valAx>
        <c:axId val="70976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70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C23-A36A-4BD1-AE8C-2C280A53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938-A8F5-4083-95C3-6B21E192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37F-5B18-4637-A908-192C5A0B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05F-72ED-4C05-82D4-CF3FDC4B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2ED-36A9-419D-AC81-E2DD7F96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0DA-45E0-487F-AB87-7D33EC50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9A2-22C1-43A9-9248-D9AED2BE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D60-EDD4-404B-8206-1C8AE8B6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A87-CC49-4897-B413-76CA36A7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C19-CBF4-40CD-BFCD-DCD88E6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65D-40CC-4837-9D03-AEE6426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55E-93AD-4515-AE15-BFA99515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2A355-BE3C-4CC7-BEE4-4715D76FBA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