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33721"/>
        <c:axId val="65910022"/>
      </c:barChart>
      <c:catAx>
        <c:axId val="36133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10022"/>
        <c:crosses val="autoZero"/>
        <c:auto val="1"/>
        <c:lblAlgn val="ctr"/>
        <c:lblOffset val="100"/>
        <c:noMultiLvlLbl val="0"/>
      </c:catAx>
      <c:valAx>
        <c:axId val="65910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33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587-6BBB-4110-B0D6-8E04E5B1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EF-2393-43EC-AF9F-7BBBDC1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AFC-DF14-4279-965A-072AB3AF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7E8-C8EC-4C78-8846-D2D0098C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B82-3AAF-4628-B833-74DD373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934-BA80-4ADC-80F3-9323D64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93D-82F7-454B-9765-8F54E01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9C3-AED3-410B-B102-E1FA6A4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A4C-0B4A-4367-891F-CA60DABA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1C1-4E33-472E-A8A7-E0B6233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983-222E-4DFD-8E54-11690E1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175-A45C-405F-843D-D05457F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CE54A-B28D-4DED-ABD3-209854574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