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39644"/>
        <c:axId val="4565722"/>
      </c:barChart>
      <c:catAx>
        <c:axId val="83539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5722"/>
        <c:crosses val="autoZero"/>
        <c:auto val="1"/>
        <c:lblAlgn val="ctr"/>
        <c:lblOffset val="100"/>
        <c:noMultiLvlLbl val="0"/>
      </c:catAx>
      <c:valAx>
        <c:axId val="4565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9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46A-9C30-494A-810E-B5C0BFFD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EB7-BA56-4B31-96CD-677EAA0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238-6A41-4961-B59B-C398D3D3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5F4-7FBB-4B21-81F7-B67036E7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A3D-FA38-4AB4-A175-298E824F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4CF-B1D8-4685-98A9-7649296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B36-3DF7-4048-BB7E-88211A0A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BAB-AB11-4955-9641-C4BA8B7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E16-FFF3-4D84-8E74-623977D6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CC8-D045-4D5A-80FD-B815445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61A-2BCE-43D8-8BAE-D29BBA6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B1F-C2D5-4DCB-9CED-682F0A8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B8C2E-803F-4CB9-B35A-EA38DAF496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