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564735"/>
        <c:axId val="35824682"/>
      </c:barChart>
      <c:catAx>
        <c:axId val="245647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24682"/>
        <c:crosses val="autoZero"/>
        <c:auto val="1"/>
        <c:lblAlgn val="ctr"/>
        <c:lblOffset val="100"/>
        <c:noMultiLvlLbl val="0"/>
      </c:catAx>
      <c:valAx>
        <c:axId val="358246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647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6793-DF9C-484A-94F3-B0F8D02CA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15AE-4292-49A3-83C3-51CD0A3A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18E0-D3A5-47A5-85BB-8FC33332E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A7E5-E3E0-4876-BE1E-9F75292B1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BAC5-699B-4413-96DB-53D75D97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5189-E876-4A20-9A24-FE5BF182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21F0-D48C-4441-BF96-C7A8F3AE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E138-A0EB-45C9-8F31-CD2DB556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C754-C3B5-40F8-99BE-0F54EFF4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A5D7-A24E-4091-BAD0-02076345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26A0-D731-469C-85EE-84CC6A83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2C9E-F3D4-4BF9-BAFD-40DFB6EE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E6828-C152-4084-A1B9-90DFAA8555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