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D50E-1918-4D47-A19C-4000E6F85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4B1C-6988-41B3-9048-6A6517D1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59DA-C727-44AC-96CB-A102A1F8F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F528-2DC7-492B-B12C-9ABBB5E2C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72D9-DF4C-498F-9A30-33B048C4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1C01-4461-40F9-B2F2-7B0991D6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61D4-4B30-493E-8C02-18CD6FB5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2FFF-85D8-4BE8-815A-B91541C0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79BC-2A61-4DA3-BCC8-F7C7FC86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15AA-A15F-4E94-B508-A4251CC6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665B-BD1D-4BA4-A8ED-D589BC59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C3E2-6C29-47F4-8220-1AF90D15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873C-5164-4C17-B7F1-9C926F0DA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067280" cy="4438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572000"/>
            <a:ext cx="3657600" cy="45720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02920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5334120"/>
            <a:ext cx="350496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6400800" cy="1361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2590920"/>
            <a:ext cx="609840" cy="53316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312408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3429000"/>
            <a:ext cx="35053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90680" y="1909800"/>
            <a:ext cx="6362640" cy="3038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33920" y="2209680"/>
            <a:ext cx="5029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ファイル属性の確認。アーカイブ属性のみ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28195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読み取り専用属性と隠しファイル属性を付加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37339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隠しファイル属性を外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たかはしもとのぶ</cp:lastModifiedBy>
  <dcterms:modified xsi:type="dcterms:W3CDTF">2006-05-05T05:21:2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