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1838-3274-489E-A0A3-BC3DE212D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A218-58DD-4C9C-8FBD-664F47EC3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577F-845C-48CE-9F33-08D0FF5EF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AAD4-AE08-475F-8F16-FD0CA7A28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B4CF-50DD-4511-9E03-59CC5FC8C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4B03-F5EF-47AE-A5B6-86633EA63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CFB8-485E-4132-8617-A77EEEDCF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A407-49C8-4BA3-97E3-56B7FB011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B136-C44F-4715-AB5F-F11C0DF6E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6E49-03CB-4277-B48E-EBC0264D4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FCB4-90CB-4307-BF76-A0DD4D7AA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0B8A-4871-4328-B410-EA675E3B7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F6095-A4AF-438E-8139-EB75405497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0200" y="1197000"/>
            <a:ext cx="1440000" cy="35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51640" y="1197000"/>
            <a:ext cx="14396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0200" y="148428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1197000"/>
            <a:ext cx="22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起動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PMACRO /D=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000208D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90792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 u="sng">
                <a:solidFill>
                  <a:srgbClr val="000000"/>
                </a:solidFill>
                <a:uFillTx/>
                <a:latin typeface="Arial"/>
              </a:rPr>
              <a:t>HWND HVTW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620640"/>
            <a:ext cx="1368360" cy="28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トピック名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484360" y="836280"/>
            <a:ext cx="503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90792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771640" y="1700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1700280"/>
            <a:ext cx="172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接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771640" y="20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20606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XECU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771640" y="242100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242100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2421000"/>
            <a:ext cx="143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565360"/>
            <a:ext cx="934920" cy="503280"/>
          </a:xfrm>
          <a:custGeom>
            <a:avLst/>
            <a:gdLst>
              <a:gd name="textAreaLeft" fmla="*/ 125280 w 934920"/>
              <a:gd name="textAreaRight" fmla="*/ 809640 w 934920"/>
              <a:gd name="textAreaTop" fmla="*/ 94680 h 503280"/>
              <a:gd name="textAreaBottom" fmla="*/ 3304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50" stAng="-5400000" swAng="-5400000"/>
                <a:lnTo>
                  <a:pt x="0" y="10112"/>
                </a:lnTo>
                <a:arcTo wR="21600" hR="8150" stAng="10800000" swAng="-2811621"/>
                <a:lnTo>
                  <a:pt x="14400" y="21134"/>
                </a:lnTo>
                <a:lnTo>
                  <a:pt x="21600" y="17280"/>
                </a:lnTo>
                <a:lnTo>
                  <a:pt x="14400" y="12494"/>
                </a:lnTo>
                <a:lnTo>
                  <a:pt x="14400" y="15833"/>
                </a:lnTo>
                <a:arcTo wR="21600" hR="8150" stAng="7988379" swAng="2654456"/>
                <a:lnTo>
                  <a:pt x="157" y="9131"/>
                </a:lnTo>
                <a:arcTo wR="21600" hR="8150" stAng="-10642835" swAng="5242835"/>
                <a:close/>
              </a:path>
              <a:path fill="darkenLess" w="21600" h="21600">
                <a:moveTo>
                  <a:pt x="21600" y="0"/>
                </a:moveTo>
                <a:arcTo wR="21600" hR="8150" stAng="-5400000" swAng="-5400000"/>
                <a:lnTo>
                  <a:pt x="0" y="8150"/>
                </a:lnTo>
                <a:arcTo wR="21600" hR="8150" stAng="10800000" swAng="-157165"/>
                <a:lnTo>
                  <a:pt x="157" y="9131"/>
                </a:lnTo>
                <a:arcTo wR="21600" hR="8150" stAng="-10642835" swAng="524283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3141720"/>
            <a:ext cx="792000" cy="358560"/>
          </a:xfrm>
          <a:prstGeom prst="wedgeRoundRectCallout">
            <a:avLst>
              <a:gd name="adj1" fmla="val -8916"/>
              <a:gd name="adj2" fmla="val -98671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RE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924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292428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2492280"/>
            <a:ext cx="1009800" cy="505080"/>
          </a:xfrm>
          <a:prstGeom prst="wedgeRoundRectCallout">
            <a:avLst>
              <a:gd name="adj1" fmla="val -77513"/>
              <a:gd name="adj2" fmla="val 38050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からの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771640" y="335772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35772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OK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71640" y="38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3860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4292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4292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5373720"/>
            <a:ext cx="6624720" cy="107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信はピアツーピアの接続モデルを持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セッションの識別はサービス名（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TERM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トピック名（任意の文字列）の組み合わせで行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2:29:44Z</dcterms:modified>
  <cp:revision>50</cp:revision>
  <dc:subject/>
  <dc:title>DDEのしくみ</dc:title>
</cp:coreProperties>
</file>