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2109-7556-45ED-9982-0E95B5701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FA84-1AA5-4947-AD55-7DCEF61F6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E56A-0F57-411A-9C77-9C4C2F052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47EE-1134-43CC-8F86-A4F9A530E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334D-4DB6-4932-AF45-A34138ADD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74B3-0FA3-4F7F-A465-67A1CCEC9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7F7A-5688-4362-A8B3-733B65EFE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F7C4-0F47-4D3A-A854-F0D38A545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B6BD-DEF2-4D05-8CB0-3CFA9F3D7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7D4C-AA50-4440-A0A5-E6FF4DA2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819E-FD67-4C74-9705-63B1072C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99C0-4D67-4B59-82B5-44AA05BD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B4A38-8E63-4510-A92B-BBE8B8306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773360"/>
            <a:ext cx="7632720" cy="41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249228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328464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4005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4653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5229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8472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1341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69120" y="725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うそうそ帳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53720" y="28116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/12/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作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88120" y="62420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うまく出来るかしら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1:29:08Z</dcterms:created>
  <dc:creator>株式会社ＮＴＴデータビジネスブレインズ</dc:creator>
  <dc:description/>
  <dc:language>en-US</dc:language>
  <cp:lastModifiedBy>株式会社ＮＴＴデータビジネスブレインズ</cp:lastModifiedBy>
  <dcterms:modified xsi:type="dcterms:W3CDTF">2009-12-22T11:30:08Z</dcterms:modified>
  <cp:revision>2</cp:revision>
  <dc:subject/>
  <dc:title>スライド 1</dc:title>
</cp:coreProperties>
</file>