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99728-B481-43FB-BDA3-C3003CFC11A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7DC-55AE-4899-8F3D-E27E87A3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5AD2-CAFD-4D84-A5BB-BADA9739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662-D69A-4021-8F86-5FFED60C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4F2B-8287-4B78-A732-690BA454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CF66-BA9A-46CD-BB5E-00070E52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9421-3847-4C9C-B330-1E5C3727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78C3-A9DE-4661-9C2C-6FC7F30E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B04C-6F91-4620-BBF2-E233F163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C1A1-8F18-4AEC-8531-1CF5AC1C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E3AD-441C-4B5F-8B27-F0A743F9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0157-296E-4A75-B2AC-5243FE77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B45D-5DAF-4617-9BCA-6EB7E731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4D00-3A01-4732-A24E-6B7122DF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E0E9-5909-47BD-AA10-479C4720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A82F-C4F7-4FD9-B9B6-5928B073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7B16-4A40-42E6-B7E5-0C6F0AD7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18EC-DCFD-4427-AF59-0DE5DCB7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7208-E8F7-4CA7-B051-CC5AAAD0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751-8C0D-421D-B5D6-4122B8B1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2AA3-69F3-4BE9-80A5-CE12ABC5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367-E437-4AC2-B37E-B8231329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CEF-0C70-4BB9-95E1-2CD28936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553-6E99-4351-A1B9-F38439B5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CD95-FE86-42E6-90F4-FBA3BCDA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4C363-DEAE-4BFD-A80E-F5EA0197A191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91CD45-311F-442B-9670-E1D155B57AAF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     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OSC2006 Tokyo/Fal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2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C2A0-6472-47D9-A1C2-DCAEB878D0F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5747-B268-433A-95E3-0F67E5643DC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ava / C#.NET / JavaScript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6EE4-DBC1-4622-8530-B31A9CE25DE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272360" cy="36417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14172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9D9-623C-4BD8-9689-2CAACE4BFFF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次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B.NET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対応という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B92A-F1C9-4B03-A620-BC6EA3CB6FCE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do</cp:lastModifiedBy>
  <dcterms:modified xsi:type="dcterms:W3CDTF">2006-10-28T00:39:31Z</dcterms:modified>
  <cp:revision>298</cp:revision>
  <dc:subject/>
  <dc:title>blanco Framework ご紹介</dc:title>
</cp:coreProperties>
</file>