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B86EA-F080-4AB4-9EB8-AEB8652ADF5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F98B-010C-4348-8903-7AE59307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3BAF-318A-4C2C-B11E-5D957AA2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3A32-FCE9-4F0E-B174-4763B45A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979B-B67E-4C91-BEB9-CC2468DD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7164-44AD-4C1F-9647-FCF28133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279D-00B6-44CB-B849-D8081A43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DB7C-B575-455F-A084-63CF84D2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0C36-BB93-4A29-8077-47F09CB9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08BD-B4C9-449B-81E2-88789080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DC7E-EA20-4822-8B2E-825C1899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A4A8-7BBA-42A3-8555-ACFD027C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D64-3E8F-463D-BC89-16243165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326E-20E9-4CA2-B382-0A63E942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FF64-787B-44AD-B3FD-A04ED38E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3BDF-6EB6-4B86-BA5D-42D66CC9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3EFF-4134-4622-8B8E-231730F4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54A5-1F1F-4015-A942-69315368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366A-635E-465B-A192-4EDD2554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704-EC0C-4FFB-A93D-BEAF9743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F671-C2E7-4A5E-8587-7522028C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FEB-C025-4C3E-A767-E5D08EBA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4EF-4F31-4EF8-ABFF-D4A31784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1087-038F-4E70-8FA9-05985B4C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C229-092F-4731-841D-B611AFCB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E7996-1477-4960-9B05-EFF92FC3230F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6E923C3-389F-4940-8C7F-747E2E7F1439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クリーンショッ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7.0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3FC2-790A-49DC-B524-68C1EE421A9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F687-EDD0-4258-AE86-6BEE20B3714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BF7B-91B9-4DDB-9581-E00A3FC12014}" type="slidenum">
              <a:t>5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kiIga</cp:lastModifiedBy>
  <dcterms:modified xsi:type="dcterms:W3CDTF">2007-01-15T09:00:58Z</dcterms:modified>
  <cp:revision>318</cp:revision>
  <dc:subject/>
  <dc:title>blanco Framework ご紹介</dc:title>
</cp:coreProperties>
</file>