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5DA8-D427-453B-8B70-776589B1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5B22-8BA2-467D-918B-EE23CAEC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3F4B-08C4-41EA-A353-6DA5B77F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E95D-9B36-41F8-B2E3-8E2F0CF4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5032-F8E8-4AE3-A9C6-408EDF09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5DA8-56AD-4E5F-866A-8002A176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10BB-A1A4-43C7-B268-563C4B04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7A19-993B-42A7-A42F-5454D4DB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E9E5-E86B-4EF8-8B4F-2920BCF7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72E5-90DC-4551-8D80-8F0B4E34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72AD-55BC-490B-86D7-5EF99DF1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0699-EC69-42DB-B7D5-AAC9B57C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ED31-45AC-4132-A427-A36F5A68E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498600"/>
            <a:ext cx="72010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メールソリューション </a:t>
            </a: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Mail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の提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1197000"/>
            <a:ext cx="7704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一般的な業務システム開発においてメール送受信ニーズが出てきてい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ころが、実際に業務システムにメール送受信を組み込むとトラブルが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ールクライアントの種類・機種によっては文字化けのトラブ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: T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欄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欄のメールアドレス誤設定による個人情報流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ールの文面が適切でなかった。ワークフロー機能が入っていれば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4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ール送受信にまつわる機能の実装は意外にコスト高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5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試験目的でプログラムを動かしたら、間違ってメールを誤送信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lancoMail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導入して、メール送受信にまつわる諸問題を解決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CE4D-2D5D-4A8D-ACF2-4D482AE8E7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2421000"/>
            <a:ext cx="1116000" cy="107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メー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70560" y="944640"/>
            <a:ext cx="3241800" cy="4176720"/>
          </a:xfrm>
          <a:custGeom>
            <a:avLst/>
            <a:gdLst>
              <a:gd name="textAreaLeft" fmla="*/ 158040 w 3241800"/>
              <a:gd name="textAreaRight" fmla="*/ 3083760 w 3241800"/>
              <a:gd name="textAreaTop" fmla="*/ 158040 h 4176720"/>
              <a:gd name="textAreaBottom" fmla="*/ 4018680 h 4176720"/>
            </a:gdLst>
            <a:ahLst/>
            <a:rect l="textAreaLeft" t="textAreaTop" r="textAreaRight" b="textAreaBottom"/>
            <a:pathLst>
              <a:path w="21600" h="27829">
                <a:moveTo>
                  <a:pt x="3600" y="0"/>
                </a:moveTo>
                <a:arcTo wR="3600" hR="3600" stAng="16200000" swAng="-5400000"/>
                <a:lnTo>
                  <a:pt x="0" y="24229"/>
                </a:lnTo>
                <a:arcTo wR="3600" hR="3600" stAng="10800000" swAng="-5400000"/>
                <a:lnTo>
                  <a:pt x="18000" y="278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0800000">
            <a:off x="4462200" y="23839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35640" y="252900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送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64000" y="306864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64000" y="3213000"/>
            <a:ext cx="9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受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6000" y="5121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を活用したシステム構築が簡単に実現できる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5049720"/>
            <a:ext cx="180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通常のメールサー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498600"/>
            <a:ext cx="5472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Mail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アーキテクチ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75280" y="432900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68136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9640" y="443700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54560" y="37893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JavaMa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241920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9640" y="252900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Comm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2000" y="3068640"/>
            <a:ext cx="2195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92720" y="317664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Core (AP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9280" y="2349360"/>
            <a:ext cx="1116000" cy="107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メー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2193840" y="234756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66920" y="24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受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95640" y="3032280"/>
            <a:ext cx="934920" cy="576000"/>
          </a:xfrm>
          <a:prstGeom prst="rightArrow">
            <a:avLst>
              <a:gd name="adj1" fmla="val 50000"/>
              <a:gd name="adj2" fmla="val 4057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3176640"/>
            <a:ext cx="9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送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3213000"/>
            <a:ext cx="863640" cy="4320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メー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086440"/>
            <a:ext cx="2197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ケータイや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PC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など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通常のメールクライアン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940360" y="1195560"/>
            <a:ext cx="2232000" cy="504720"/>
            <a:chOff x="5940360" y="1195560"/>
            <a:chExt cx="2232000" cy="504720"/>
          </a:xfrm>
        </p:grpSpPr>
        <p:sp>
          <p:nvSpPr>
            <p:cNvPr id="70" name=""/>
            <p:cNvSpPr/>
            <p:nvPr/>
          </p:nvSpPr>
          <p:spPr>
            <a:xfrm>
              <a:off x="5940360" y="1195560"/>
              <a:ext cx="223200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84720" y="1303560"/>
              <a:ext cx="194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 anchorCtr="1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000000"/>
                  </a:solidFill>
                  <a:latin typeface="Century Gothic"/>
                </a:rPr>
                <a:t>業務アプリケーション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975280" y="1808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19640" y="19526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Ag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1CDC-E358-471E-8908-9ECEB614EA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5640" y="498600"/>
            <a:ext cx="5940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Mail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を支える個別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306864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25440" y="317808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Comm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117440" y="4329000"/>
            <a:ext cx="2195640" cy="504720"/>
            <a:chOff x="1117440" y="4329000"/>
            <a:chExt cx="2195640" cy="504720"/>
          </a:xfrm>
        </p:grpSpPr>
        <p:sp>
          <p:nvSpPr>
            <p:cNvPr id="79" name=""/>
            <p:cNvSpPr/>
            <p:nvPr/>
          </p:nvSpPr>
          <p:spPr>
            <a:xfrm>
              <a:off x="1117440" y="4329000"/>
              <a:ext cx="219564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8520" y="4437000"/>
              <a:ext cx="180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 anchorCtr="1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Century Gothic"/>
                </a:rPr>
                <a:t>blancoMailCore (API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08108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25440" y="20606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Ag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27280" y="4257720"/>
            <a:ext cx="514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JavaMail API</a:t>
            </a: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を単純化するプロダクト。</a:t>
            </a:r>
            <a:br>
              <a:rPr sz="1400"/>
            </a:b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安全で簡単なメール送信／メール受信プログラミング環境を提供。</a:t>
            </a:r>
            <a:br>
              <a:rPr sz="1400"/>
            </a:b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※</a:t>
            </a: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JavaMail API </a:t>
            </a: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を直接利用したプログラミングの難易度は高い。</a:t>
            </a:r>
            <a:br>
              <a:rPr sz="1400"/>
            </a:b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デバッグモードを提供。試験動作時のメール誤送信を防ぐ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27280" y="3033720"/>
            <a:ext cx="514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文面にコマンドを埋め込む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よる承諾・拒否・選択・短文入力などを実現する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セッションの概念 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(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セッション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ID) 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を付与する機能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27280" y="1844640"/>
            <a:ext cx="514836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よるワークフローに関する基本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時間帯を考慮したメール送信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よる入会・退会といったアドレス管理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送信内容の事前チェック機能。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(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管理者の承認後に送信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4761000"/>
            <a:ext cx="1800360" cy="325440"/>
          </a:xfrm>
          <a:prstGeom prst="roundRect">
            <a:avLst>
              <a:gd name="adj" fmla="val 16667"/>
            </a:avLst>
          </a:prstGeom>
          <a:solidFill>
            <a:srgbClr val="ffff99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007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9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月末リリース予定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052E-5CBF-4445-86F3-7F7FAAB19B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ndb</cp:lastModifiedBy>
  <dcterms:modified xsi:type="dcterms:W3CDTF">2007-09-06T04:02:37Z</dcterms:modified>
  <cp:revision>324</cp:revision>
  <dc:subject/>
  <dc:title>blanco Framework　システム構成</dc:title>
</cp:coreProperties>
</file>